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wmf" ContentType="image/x-wmf"/>
  <Override PartName="/ppt/media/image2.jpeg" ContentType="image/jpeg"/>
  <Override PartName="/ppt/media/chimes.wav" ContentType="audio/x-wav"/>
  <Override PartName="/ppt/media/image6.jpeg" ContentType="image/jpeg"/>
  <Override PartName="/ppt/media/image7.wmf" ContentType="image/x-wmf"/>
  <Override PartName="/ppt/media/image8.png" ContentType="image/png"/>
  <Override PartName="/ppt/media/MSj00748430000%5B1%5D.wav" ContentType="audio/x-wav"/>
  <Override PartName="/ppt/media/image3.jpeg" ContentType="image/jpe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A79-5067-4249-BB6B-CD4ACBDE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47E-4BC8-4AF2-9E9F-66FE5EBF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FDCC-BD8B-4565-ABA8-4BDDCF11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6D0B-3B5B-47B3-89BF-8BEFE760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1435-D586-4F64-B392-5A30AD73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5322-A261-458C-B7D2-A5344500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AA3F-4FC6-4F56-959B-50729F80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6945-20CC-4A08-87CA-F8CB6F20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40C6-FB8C-470E-86AF-44BAAD2B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1302-9380-4E4C-8AC5-5276E23A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31EC-9C5C-48F1-9F39-B51C5F34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80B-3980-4F9F-B17A-8FC477BA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156C-76C7-4FC4-8940-15DBCB11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E2B0-8905-4662-9C4C-BD242979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2D3B-35D0-4856-A9A7-8D4D118D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82D3-1097-414C-A795-0AAFBF4E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7C99-86A8-42E9-B550-79175182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42E-53E8-452D-99E4-D14BE332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A37D-D4C6-436C-8830-F8686405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4E2D-FE13-43A5-B32D-D755C0EF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8E91-AAA9-4643-9C8E-1F6CF3C5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0475-8F96-46B3-A4E0-678129DE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647-2E68-4CB9-860E-6C665732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AAD8-DBCE-41DE-9BF5-9B2FBE27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7697-DD95-4E8B-94CE-32A09BD0315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E174-3685-4D05-BA26-BDE9FCD720E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125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Making Words 5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 spd="slow" advTm="10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516720" y="3284640"/>
            <a:ext cx="1584360" cy="792000"/>
          </a:xfrm>
          <a:prstGeom prst="wedgeEllipseCallout">
            <a:avLst>
              <a:gd name="adj1" fmla="val 27856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2124000" cy="1415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1900080" cy="1355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500"/>
                            </p:stCondLst>
                            <p:childTnLst>
                              <p:par>
                                <p:cTn id="26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1995480" cy="2538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9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9500"/>
                            </p:stCondLst>
                            <p:childTnLst>
                              <p:par>
                                <p:cTn id="40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0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1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2421000"/>
            <a:ext cx="2549520" cy="1700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0"/>
                            </p:stCondLst>
                            <p:childTnLst>
                              <p:par>
                                <p:cTn id="528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9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9500"/>
                            </p:stCondLst>
                            <p:childTnLst>
                              <p:par>
                                <p:cTn id="54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5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516720" y="3284640"/>
            <a:ext cx="1584360" cy="792000"/>
          </a:xfrm>
          <a:prstGeom prst="wedgeEllipseCallout">
            <a:avLst>
              <a:gd name="adj1" fmla="val 27856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4000" y="2706840"/>
            <a:ext cx="2303280" cy="1717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6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9000"/>
                            </p:stCondLst>
                            <p:childTnLst>
                              <p:par>
                                <p:cTn id="6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9500"/>
                            </p:stCondLst>
                            <p:childTnLst>
                              <p:par>
                                <p:cTn id="68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8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8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69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7500"/>
                            </p:stCondLst>
                            <p:childTnLst>
                              <p:par>
                                <p:cTn id="69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1692000" cy="1729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0"/>
                            </p:stCondLst>
                            <p:childTnLst>
                              <p:par>
                                <p:cTn id="804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9000"/>
                            </p:stCondLst>
                            <p:childTnLst>
                              <p:par>
                                <p:cTn id="8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9500"/>
                            </p:stCondLst>
                            <p:childTnLst>
                              <p:par>
                                <p:cTn id="82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1500"/>
                            </p:stCondLst>
                            <p:childTnLst>
                              <p:par>
                                <p:cTn id="82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2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3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611280" y="2205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0"/>
                            </p:stCondLst>
                            <p:childTnLst>
                              <p:par>
                                <p:cTn id="942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9000"/>
                            </p:stCondLst>
                            <p:childTnLst>
                              <p:par>
                                <p:cTn id="9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9500"/>
                            </p:stCondLst>
                            <p:childTnLst>
                              <p:par>
                                <p:cTn id="95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96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3500"/>
                            </p:stCondLst>
                            <p:childTnLst>
                              <p:par>
                                <p:cTn id="96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6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7500"/>
                            </p:stCondLst>
                            <p:childTnLst>
                              <p:par>
                                <p:cTn id="97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7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we d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’m sure you have managed brilliantl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ll done xxx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0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6:09:57Z</dcterms:created>
  <dc:creator>Franklin</dc:creator>
  <dc:description/>
  <dc:language>en-US</dc:language>
  <cp:lastModifiedBy>Cynthia</cp:lastModifiedBy>
  <dcterms:modified xsi:type="dcterms:W3CDTF">2010-11-13T22:27:30Z</dcterms:modified>
  <cp:revision>9</cp:revision>
  <dc:subject/>
  <dc:title>Making Words</dc:title>
</cp:coreProperties>
</file>